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975-61D7-4D6B-8F71-43A5A052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876-9619-4752-8419-17D0C206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382EF-5CB1-46C5-884A-13833EAA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E67A1-33C5-44FF-B37B-D2FE8606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F9DF8-3D42-4167-84B8-AF582465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A5DBB-164B-4A5B-AFDC-3F4E5F92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85647-4D3F-4A06-B034-46791170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080E4-9E09-4214-8AEB-E9328CCA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5B4E0-5307-4A3F-A01E-C3896278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60080-935D-4999-B850-2BA90A89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DD6C7-B49A-4046-B1F1-EB4D37FF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51BDB-E95C-4D87-8DB2-32A55A02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25C-B38C-4306-984D-BF75A923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FD1F3-4AFA-4C1D-B840-746F6AE4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5CA5E-67FF-485E-BBCF-1F99EA0A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E0355-DF9C-4EFE-91E4-852F3A49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8FEF7-98F8-4DB9-8EC3-159A4DB6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D98DF-9DA6-4B1C-889D-7985796D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60BBC-D7AF-46A9-9214-FCA8B06D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BB583-A55E-486B-924F-37608833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83667-F18C-4DB6-8180-F3802F8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F2FB5-7933-4FA2-84D8-82AF83E9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33543-3397-4922-8CDC-981C96B4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EE0-10D7-45B6-B975-6B731CAD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4B692-18A2-4941-A666-06F487BF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15BD9-B1A1-4E8D-BD7E-2B085DF1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F066E-1CBF-412E-BB26-76893FEA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FB907-FE8F-4A10-85D3-FC575CDB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2E3D7-D097-4C86-9715-96BAB663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930D7-EEF1-4D3C-AD64-BB0865DB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9E175-EA6E-4FBB-B290-272ADEF0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5761C-E830-40CF-9597-66BD3D5E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E97D0-7999-42E1-B2E2-633C66F2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D8FA2-9A4C-4D71-A627-C11CDB25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8364-F434-46B6-9431-EC7B4397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8B40C-04F5-4ECB-B915-EE2517D5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BF143-3D29-4119-9C87-76FCBFC4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5176F-7B30-44A8-8E07-242EC628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FA7A3-4F03-4D83-9607-5C354C25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CEC66-1C0F-435B-ADF1-28F464B1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600D7-F314-494C-9C67-07E16188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3E49B-180B-462B-AC70-A715FBA9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76227-11BB-4841-8415-092C40E1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4E2B1-17CA-4B0C-9EB9-83C73CC8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80B3E-A7AA-47E1-8F99-4E722D18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49FD-76C5-44E7-B7CE-E273D07C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01FE0-39D8-489A-A3AC-BE4BD7C5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AC3AD-4AD9-4570-A5F5-A68CCE73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756F4-86C2-4391-BA2F-C1C4F1F6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CDEB0-098C-4D23-9CA1-D621A10C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0C9BF-17EB-4E68-89CB-352C7557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12E9-EB92-4820-800D-46DA6ABF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3D61-E3F6-46AC-BA67-CB418D8E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10C2-6F09-49D7-B508-868D1C03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ACD8-71CC-4119-8B3B-A93659F7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944B-2402-430D-8433-D87B6A3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C61-7F2B-436C-A622-0486D05F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D8D6-0401-4E7C-9A9C-1E42F0FA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F0AB-54B9-4186-A7E4-122E2883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E508-8A1C-4ED6-BF06-DFA1C426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F4CB-8D42-4628-A306-19B29B04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7BE1-BD34-4800-84D8-C8A79801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8788E-8021-4E1A-A07A-BFF6F5FA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192EB-0757-425E-BE7F-97091486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BBC59-F6AF-4769-99E5-57B764ED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0B014-E37D-4040-9890-07F1408E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D0941-8B59-4602-BA1A-091E9A12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82C-A7C0-4CB6-B463-B8963C1D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0485-A638-4ED9-8A17-B092A384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25FCD-DC63-4002-B1C3-A9CEF02F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7D552-5D63-46BD-B3DA-579A0FEA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9042-C2BB-4859-A762-B0BAE59E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2BB28-FC63-4A6B-89EB-AB8DDE3B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CFB31-89FA-4C1D-84C4-874775E8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5C3D2-6A08-4AAF-B918-82F35D37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D365D-7709-4E57-817B-A5CE8654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DB54-DAF4-4F0F-B726-D912F7B9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BAF73-E22B-4B88-AF80-6B8C0ABD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604-51D6-4F2B-B075-2865767E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B88DB-D2ED-4BFE-8044-5336BDC9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FBD7D-D934-45D5-88BA-1F52A98F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5F56A-CD7A-49E0-BAB4-611C92FC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3E5F-E7B2-4CF4-87F5-972662A1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525FE-7B6E-4F0D-BDE1-7EDB9784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52998-BEAB-4A08-88CD-537E294C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A2E40-416E-4145-AC41-147CD1DA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AE66B-6454-41EE-B79D-061E508A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09F7F-49B2-42E8-B81C-A971CE9E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D89F7-5436-4AA7-9D35-F8F1BDE1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CD5-4F52-4180-B804-684C9C5F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60471-C532-43FC-ABD4-FAB93B94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9D316-6B96-47E1-9E8B-8B14928E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25282-E72C-480C-A37F-B5BAF613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8EBE3-1AEB-4E1B-B351-79C1DB28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47EDE-8B48-4400-B1A9-7A5F395B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27887-73DB-4ACA-9B71-73C55FA3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49047-6581-416D-85D5-E1C2BC76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8F1ED-32A6-4FC8-97C3-228CE97F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CE5A1-8F9A-4BCC-B784-40CDCB6C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3A39F-5C18-446B-90B7-3C1ED65A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947-F70B-4912-9765-BCF964C0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10875-D616-4C25-9D8B-36E61071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FEE18-56CB-487C-90A2-B5C149A0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D1066-2E59-4187-9751-286CEF10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1330C-9FEC-4D94-8160-DBFB5677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B85F8-798D-4320-955C-556BE5C6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01A0F-777D-42D0-B412-467CBE46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C407A-C456-44EE-A26B-74C25373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55FC6-26DA-4CB4-9A96-CE71BC9B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1F3D0-8F61-44BB-9D4B-C310515C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9F7CE-F6A2-41DE-99B3-E32585F5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2F2-0B26-45D0-AFEF-FCEB9C2E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FB436-8B11-4279-AB32-47AF044D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6C519-BF6B-478C-AC88-D30B3AA1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EFD84-5790-48D9-BB25-D6928C20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A6B55-67BB-4B79-BDD4-5B7AE77E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900AF-1F8B-4BFB-860E-5B08175A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8D6B3-CC0F-4D9E-9773-9843DEBB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EFC4A-2950-47E8-8903-44DE86DA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50FD6-2CE4-4473-BD37-DBCB8241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7C8D0-DCEF-4DE2-A136-FB469C19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E34AD-6445-46F1-A95A-047C9B95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B1A-1E2A-404E-84AD-75D1E158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DF4CC-6BBE-4FE3-8F65-924289FB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2F368-2F06-4FD1-B32C-5732FDB8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E7727-644A-4630-92F7-BB7C674C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FFD2C-D2C2-41E5-A6E2-F69A6D29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5C92C-802D-4C37-A0A1-7AC4D247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E16B0-4D5A-4522-869E-4486A888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D2DB2-5396-4AED-A51A-C636FB75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40433-6A95-4066-A875-492CDD98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F142F-0FD6-4656-BA9C-EA5B9B07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CCE77-0F00-48D0-ACA2-AC5AD7EC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BD15-EAF8-45C3-8B41-155CAE69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21FD0-6647-4F52-AF56-E568F7A7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32D3B-6279-4D6C-A473-32E848FA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21A8E-C8C3-4329-912B-53342BB7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D120B-51BD-46BB-BD89-DA42F39E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20EA4-0727-46E9-9B97-1070AC47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B75E6-C502-4469-ACB7-99879865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F35DE-AA2F-4737-BD60-E2E10804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3F4BE-7BA5-4201-980D-C4A3E9C4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EA1CD-46DE-44FE-BD33-D4D791A8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92D9C-1E4A-4F1E-B15C-51A9F1F3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07B1-19E6-453A-9E45-0257C5DA26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350D-FF46-40EE-863A-4D8213EFB5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4598-D8DB-4683-B881-AC323F93C69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3CE5-99A9-4B06-9054-FBA1B4995F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FD29-D134-4EC6-9C74-3231F5624C2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CC88-78E4-4467-AE29-B54A6272D8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1429-E57D-4CF2-AD95-A89B837DE8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D8DA-6CEA-46A6-BC0C-B67B565BFB5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32A1-97B7-42B9-B6D4-2B522CB98E1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1DF6-E258-4D54-9B39-D81440EEB6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2953-43BD-4A1B-9CD0-7DD7B4050C2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9D31-4696-461E-BB2D-496F387371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78 V šírom sve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amenia sa množ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šírom sve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amenia sa množ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hlasujú blízky Pánov deň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končí sa cesta plná hlož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plní sa našich túžob s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plní sa našich túžob 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nko, mesiac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amenia už d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raz v hrôz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em sa zachvel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budili sa národy, čo sp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roda už k žatve dozre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roda už k žatve dozr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e z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eň o domov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ša nádej už sa napln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lní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sľúbil v svojom slov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í svoj ľud žiaľov, tráp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í svoj ľud žiaľov, tráp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priamte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odvihnite hla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vzbudzuje Spasiteľov hla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sa blíži víťazstv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slá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víta nás nová, večná vla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víta nás nová, večná vlas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DUMAS Ing. Dušan Bielik</cp:lastModifiedBy>
  <dcterms:modified xsi:type="dcterms:W3CDTF">2025-01-06T18:48:26Z</dcterms:modified>
  <cp:revision>10</cp:revision>
  <dc:subject/>
  <dc:title>Bez nadpisu</dc:title>
</cp:coreProperties>
</file>